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A0F-8307-4CCC-9AE1-EB206134A308}" type="slidenum">
              <a:rPr b="0" lang="sr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971-D387-4F9C-818A-81455D2BE6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26B-A24E-4435-A830-5D4EF020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E4A-D332-47DB-B733-B13482E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BFB-4DC1-4207-83B8-42C6809B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50F-03D3-4F18-B1BF-B3B6B2D7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19F4-686B-42BE-82C1-12CA1142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B29B-A13A-4917-AE80-1473097B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009A1-75BD-46F3-BDDB-2CEB504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C9047-2512-4B81-B77B-9474A398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45234-507B-41B7-BC0E-BF13E88B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1CB2-7C17-4C5C-9E68-7B3496F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57B52-77F2-430C-9D1B-F3EF16A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34B-6D90-4ED7-B1BF-CB3089E9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E311-0889-4D6B-A9C3-B757349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CD882-9261-4246-A132-55CF99E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ADA49-F9A8-49AE-B400-39C73B6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6005-5996-4897-B304-966C5994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AA48C-22EA-4CCF-940C-776A64DD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B48-AE51-4C58-82BF-41896413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DEA-E947-4C79-B055-4DE32963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A65-74F1-4A2C-BF78-32DB184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208-3417-4AFD-B3E3-9A3EE0B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167-A18B-4EB5-9CF2-EF82650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CD8-EB72-493D-AF65-970479B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086-B554-4F66-B061-0DC1A8B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28EA-468F-435B-B54A-B2594EA972AA}" type="slidenum">
              <a:rPr b="0" lang="sr-R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6AB5-76A6-4C85-B7EE-79D5A90DA05C}" type="slidenum">
              <a:rPr b="0" lang="sr-R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/index.php?title=&#1040;&#1087;&#1083;&#1072;&#1079;&#1080;&#1112;&#1072;&amp;action=edit&amp;redlink=1" TargetMode="External"/><Relationship Id="rId2" Type="http://schemas.openxmlformats.org/officeDocument/2006/relationships/hyperlink" Target="http://sr.wikipedia.org/w/index.php?title=&#1061;&#1080;&#1087;&#1086;&#1087;&#1083;&#1072;&#1079;&#1080;&#1112;&#1072;&amp;action=edit&amp;redlink=1" TargetMode="External"/><Relationship Id="rId3" Type="http://schemas.openxmlformats.org/officeDocument/2006/relationships/hyperlink" Target="http://sr.wikipedia.org/w/index.php?title=&#1044;&#1080;&#1089;&#1087;&#1083;&#1072;&#1079;&#1080;&#1112;&#1072;&amp;action=edit&amp;redlink=1" TargetMode="External"/><Relationship Id="rId4" Type="http://schemas.openxmlformats.org/officeDocument/2006/relationships/hyperlink" Target="http://sr.wikipedia.org/wiki/&#1050;&#1072;&#1088;&#1080;&#1112;&#1077;&#1089;" TargetMode="External"/><Relationship Id="rId5" Type="http://schemas.openxmlformats.org/officeDocument/2006/relationships/hyperlink" Target="http://sr.wikipedia.org/w/index.php?title=&#1053;&#1077;&#1082;&#1072;&#1088;&#1080;&#1086;&#1079;&#1085;&#1077;_&#1083;&#1077;&#1079;&#1080;&#1112;&#1077;&amp;action=edit&amp;redlink=1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3;&#1077;&#1086;&#1083;&#1080;&#1090;" TargetMode="External"/><Relationship Id="rId2" Type="http://schemas.openxmlformats.org/officeDocument/2006/relationships/hyperlink" Target="http://sr.wikipedia.org/w/index.php?title=&#1052;&#1077;&#1093;&#1088;&#1075;&#1072;&#1088;&#1093;&amp;action=edit&amp;redlink=1" TargetMode="External"/><Relationship Id="rId3" Type="http://schemas.openxmlformats.org/officeDocument/2006/relationships/hyperlink" Target="http://sr.wikipedia.org/wiki/&#1055;&#1072;&#1083;&#1077;&#1089;&#1090;&#1080;&#1085;&#1072;" TargetMode="External"/><Relationship Id="rId4" Type="http://schemas.openxmlformats.org/officeDocument/2006/relationships/hyperlink" Target="http://sr.wikipedia.org/wiki/&#1047;&#1091;&#1073;" TargetMode="External"/><Relationship Id="rId5" Type="http://schemas.openxmlformats.org/officeDocument/2006/relationships/hyperlink" Target="http://sr.wikipedia.org/w/index.php?title=&#1041;&#1091;&#1096;&#1080;&#1083;&#1080;&#1094;&#1072;&amp;action=edit&amp;redlink=1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5;&#1083;&#1077;&#1084;&#1077;&#1085;&#1080;&#1090;&#1080;_&#1084;&#1077;&#1090;&#1072;&#1083;&#1080;" TargetMode="External"/><Relationship Id="rId2" Type="http://schemas.openxmlformats.org/officeDocument/2006/relationships/hyperlink" Target="http://sr.wikipedia.org/wiki/&#1044;&#1088;&#1074;&#1086;" TargetMode="External"/><Relationship Id="rId3" Type="http://schemas.openxmlformats.org/officeDocument/2006/relationships/hyperlink" Target="http://sr.wikipedia.org/wiki/&#1064;&#1082;&#1086;&#1113;&#1082;&#1077;" TargetMode="External"/><Relationship Id="rId4" Type="http://schemas.openxmlformats.org/officeDocument/2006/relationships/hyperlink" Target="http://sr.wikipedia.org/wiki/&#1044;&#1088;&#1072;&#1075;&#1086;_&#1082;&#1072;&#1084;&#1077;&#1114;&#1077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46;&#1080;&#1074;&#1072;" TargetMode="External"/><Relationship Id="rId2" Type="http://schemas.openxmlformats.org/officeDocument/2006/relationships/hyperlink" Target="http://sr.wikipedia.org/wiki/&#1052;&#1077;&#1090;&#1072;&#1083;" TargetMode="External"/><Relationship Id="rId3" Type="http://schemas.openxmlformats.org/officeDocument/2006/relationships/hyperlink" Target="http://sr.wikipedia.org/w/index.php?title=&#1044;&#1077;&#1085;&#1090;&#1083;&#1072;&#1085;&#1080;_&#1072;&#1084;&#1072;&#1083;&#1075;&#1072;&#1084;&amp;action=edit&amp;redlink=1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781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 "/>
          <p:cNvPicPr/>
          <p:nvPr/>
        </p:nvPicPr>
        <p:blipFill>
          <a:blip r:embed="rId1"/>
          <a:stretch/>
        </p:blipFill>
        <p:spPr>
          <a:xfrm>
            <a:off x="395280" y="189000"/>
            <a:ext cx="1979640" cy="33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113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амалга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ентални амалгами представљају легуру живе са једним или више метала, и то најчешће са: бакром, сребром, калајем и цин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Амалгами су један од најраспрострањенијих и најчешће употребљиваних материјала. Иако немају естетских квалитета, њихова дуготрајност, лакоћа употребе и ниска цена их је одржала у употреби већ више од 200 год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рви амалгамски испуни користили су се још давне 1774. године у Француској. Тадашња легура се састојала само од сребра и живе. Данашњи састав се увелико разликује од тих, почетних, и строго је регулисан пропис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npo00000b"/>
          <p:cNvPicPr/>
          <p:nvPr/>
        </p:nvPicPr>
        <p:blipFill>
          <a:blip r:embed="rId1"/>
          <a:stretch/>
        </p:blipFill>
        <p:spPr>
          <a:xfrm>
            <a:off x="6588000" y="260280"/>
            <a:ext cx="2287800" cy="1955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браћ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wcour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воде амалгам 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сребро у праху мешају са жив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V. Black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развија формулу модерног амалг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сребр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7%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кала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5%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бака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%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ци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0" y="1461960"/>
            <a:ext cx="184320" cy="276840"/>
            <a:chOff x="0" y="1461960"/>
            <a:chExt cx="184320" cy="276840"/>
          </a:xfrm>
        </p:grpSpPr>
        <p:sp>
          <p:nvSpPr>
            <p:cNvPr id="119" name="Rectangle 7"/>
            <p:cNvSpPr/>
            <p:nvPr/>
          </p:nvSpPr>
          <p:spPr>
            <a:xfrm>
              <a:off x="92160" y="1508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0" y="1461960"/>
              <a:ext cx="184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1" name="Rectangle 9"/>
          <p:cNvSpPr/>
          <p:nvPr/>
        </p:nvSpPr>
        <p:spPr>
          <a:xfrm>
            <a:off x="0" y="484668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Picture of &#10;Mr. Black"/>
          <p:cNvPicPr/>
          <p:nvPr/>
        </p:nvPicPr>
        <p:blipFill>
          <a:blip r:embed="rId2"/>
          <a:stretch/>
        </p:blipFill>
        <p:spPr>
          <a:xfrm>
            <a:off x="7596360" y="4724280"/>
            <a:ext cx="1371600" cy="1905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9572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9572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ff"/>
                </a:solidFill>
                <a:latin typeface="Tahoma"/>
              </a:rPr>
              <a:t>Конзервативна стоматологија</a:t>
            </a:r>
            <a:r>
              <a:rPr b="0" lang="sr-R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редмет изучавања ове гране стоматологије јесту урођена и стечена оштећења тврде зубне супстанце. Од урођених су најзначајније аномалије тврдих зубних супстанци (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плазиј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хипоплазиј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дисплазиј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) а од стечених оштећења најчешћи је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каријес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 зуба али се изучавају и друге тзв.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некариозне лез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Зубни испуни - пломб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Зубни испуни – пломбе су врста лечења у рестауративној стоматологији и користе се за поправку малих ломова зуба, шупљина изазваних каријесом или на други начин оштећене површине зуб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Стоматолошки материјали за испуне укључују композитне материјале (беле пломбе), порцелан и амалгам. Могу се користити и за изравнавање површина зуба ради бољег грижења или жвакањ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рви документовани докази о примени данашњих концепта поправке зуба су 9000 година стари и датирају из доба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неолита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. У арехеолошком налазишту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Мехргарх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алестина</a:t>
            </a:r>
            <a:r>
              <a:rPr b="0" lang="sr-R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су пронађени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зуби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 на којима се виде трагови рада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бушилиц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Кроз историју су људи користили различите начине испуњавања кавитета те су пронађени зуби у чије кавитете су постављани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племенити метали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парчићи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дрвета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шкољк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драго камењ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 ит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Антрополошка збирка у којој је изложен материјал археолошко-антрополошких истраживања у Ђердапу, Сремској Митровици, Трговишту, Чачку и Жичи, садржи експонат - зубна пломба нађена у Трговишту у гробу старом хиљаду година. Претпоставља се да је ово најстарија пломба за коју наука з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 "/>
          <p:cNvPicPr/>
          <p:nvPr/>
        </p:nvPicPr>
        <p:blipFill>
          <a:blip r:embed="rId1"/>
          <a:stretch/>
        </p:blipFill>
        <p:spPr>
          <a:xfrm>
            <a:off x="3492360" y="620640"/>
            <a:ext cx="1979640" cy="3384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902160" y="4508280"/>
            <a:ext cx="778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убна испуна од жада коју су користиле Мај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првом веку нове е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очетком 19. века се јавља мешавина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живе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 и различитих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метала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 као један од материјала за испун избора и тиме почиње ера </a:t>
            </a:r>
            <a:r>
              <a:rPr b="0" lang="sr-R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денталног амалгама</a:t>
            </a: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Tahoma"/>
              </a:rPr>
              <a:t>Историјат зубних испу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Giovanni d' Arcoli (1848.) први предлаже примени танких златних фолија за испу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Почетком 1960-их се у стоматологију уведе и смоле као материjал избора чиме се јавља алтернатива денталном амалгаму, а то су били композитни испуни-беле плом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9:40:42Z</dcterms:created>
  <dc:creator>Sanja</dc:creator>
  <dc:description/>
  <dc:language>en-US</dc:language>
  <cp:lastModifiedBy>Mirjana Petrovic</cp:lastModifiedBy>
  <dcterms:modified xsi:type="dcterms:W3CDTF">2020-02-14T08:41:46Z</dcterms:modified>
  <cp:revision>17</cp:revision>
  <dc:subject/>
  <dc:title>Историјат зубних испуна</dc:title>
</cp:coreProperties>
</file>